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9A83-B691-45F1-B054-4C6ADD9327F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4D83-3054-4779-A78C-A70ACEF2F02A}" type="slidenum">
              <a:rPr b="0" lang="en-AU" sz="12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F10-6AD4-4671-9CE4-EBAC588B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212-9BDA-4C5C-9ED0-D49015A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EB5-871F-402D-A43A-008CC052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8BB-561F-4CFC-B3A1-EEDF514A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53DC-5F00-49F2-B957-E395F673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A6F6-25E1-4CB9-B1D0-A6FFF959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3DBF-CF19-4F20-A957-0BEF5C74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5452-676D-46DE-941B-EB6B91F2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849A-EE80-4048-B2C7-2A54B464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BE63-D1E3-4B74-9B8F-13A33A4D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B651-972B-4828-9F00-8CDA0D5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253-A3AC-4417-840F-2E2BC75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1362-6D91-4D38-9494-A0019A7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7A09-7441-4FD2-92C5-EFDCE91C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D420-15DC-4FEB-89A9-4442F781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C910-15B5-4F67-B346-968A290A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21E8-9035-4276-84B0-0659B88F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D5A-7ADF-45D8-A325-996DAA8A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E32-0783-4540-8588-A7EF2CD7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2E4-7E5D-45DE-8EF1-2C71DCCC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7E1-8825-47EE-ACA4-1AFA879D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79F-A9BC-455B-9EAA-2905A6D7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6DB-C2EE-4600-8A2A-2001E731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90A-F201-4B31-A740-9EFF9A85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0BE-C28C-4BAD-92D4-20A15EEB3177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F65-6DA1-4F51-A3E2-B7C9A94C7182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476280"/>
          <a:ext cx="4321080" cy="5678280"/>
        </p:xfrm>
        <a:graphic>
          <a:graphicData uri="http://schemas.openxmlformats.org/drawingml/2006/table">
            <a:tbl>
              <a:tblPr/>
              <a:tblGrid>
                <a:gridCol w="969840"/>
                <a:gridCol w="3351240"/>
              </a:tblGrid>
              <a:tr h="29196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Points: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14734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Nerve: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Very Long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tar shaped at one en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end electrical messag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All over the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Detect touch, smell, taste, sound, light and pain 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14713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Muscle: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Long and Elastic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Different Typ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keletal in muscl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mooth in blood vessels and digestive system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Work in pair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146052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Red Bloo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Carry oxygen around the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mall siz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No nucleu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Live for a few week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Made in bone marrow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98100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Bon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Minerals like calcium surround bone cell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Minerals make bone cells hard and stron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859280" y="476280"/>
          <a:ext cx="4105440" cy="5310000"/>
        </p:xfrm>
        <a:graphic>
          <a:graphicData uri="http://schemas.openxmlformats.org/drawingml/2006/table">
            <a:tbl>
              <a:tblPr/>
              <a:tblGrid>
                <a:gridCol w="1081080"/>
                <a:gridCol w="3024360"/>
              </a:tblGrid>
              <a:tr h="2746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Points: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152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Lung Epithelial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Line nose, windpipe and lung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Have hair like tips called cilia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Stop dust and fluid getting into lung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Cilia move to remove dust and flui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11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Adipos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Store fat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Round shap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Found under skin, chest, waist and buttock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84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Skin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Outside surface of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Flattened shap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Cover and protect the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Sperm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Have long tails for swimming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Only found in mal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ccecff"/>
                          </a:solidFill>
                          <a:latin typeface="Calibri"/>
                          <a:ea typeface="Calibri"/>
                        </a:rPr>
                        <a:t>Egg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Some of the largest cells in the body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Round and stores plenty of food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933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400" spc="-1" strike="noStrike">
                          <a:solidFill>
                            <a:srgbClr val="993300"/>
                          </a:solidFill>
                          <a:latin typeface="Calibri"/>
                          <a:ea typeface="Calibri"/>
                        </a:rPr>
                        <a:t>Only found in females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Animal 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tem Cell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Unspecialised and reproduce indefinitel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31640" y="3141720"/>
            <a:ext cx="5940720" cy="3454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732720" y="3716280"/>
            <a:ext cx="208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Toti – Tota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Pluri – Mor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Multi - Many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Where do they come from?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0" name="Freeform 18"/>
          <p:cNvSpPr/>
          <p:nvPr/>
        </p:nvSpPr>
        <p:spPr>
          <a:xfrm>
            <a:off x="1749600" y="1773360"/>
            <a:ext cx="1191960" cy="596880"/>
          </a:xfrm>
          <a:prstGeom prst="pie">
            <a:avLst/>
          </a:prstGeom>
          <a:solidFill>
            <a:srgbClr val="ff9999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m Embryo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Freeform 19"/>
          <p:cNvSpPr/>
          <p:nvPr/>
        </p:nvSpPr>
        <p:spPr>
          <a:xfrm>
            <a:off x="1838160" y="2957400"/>
            <a:ext cx="1194120" cy="596880"/>
          </a:xfrm>
          <a:prstGeom prst="pie">
            <a:avLst/>
          </a:prstGeom>
          <a:solidFill>
            <a:srgbClr val="92d05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mbryonic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Freeform 20"/>
          <p:cNvSpPr/>
          <p:nvPr/>
        </p:nvSpPr>
        <p:spPr>
          <a:xfrm>
            <a:off x="4044960" y="1773360"/>
            <a:ext cx="1193760" cy="596880"/>
          </a:xfrm>
          <a:prstGeom prst="pie">
            <a:avLst/>
          </a:prstGeom>
          <a:solidFill>
            <a:srgbClr val="ff9999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m Bone Marrow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Freeform 21"/>
          <p:cNvSpPr/>
          <p:nvPr/>
        </p:nvSpPr>
        <p:spPr>
          <a:xfrm>
            <a:off x="4135320" y="2957400"/>
            <a:ext cx="1192320" cy="596880"/>
          </a:xfrm>
          <a:prstGeom prst="pie">
            <a:avLst/>
          </a:prstGeom>
          <a:solidFill>
            <a:srgbClr val="92d05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dult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Freeform 22"/>
          <p:cNvSpPr/>
          <p:nvPr/>
        </p:nvSpPr>
        <p:spPr>
          <a:xfrm>
            <a:off x="5076720" y="4075200"/>
            <a:ext cx="1192320" cy="596880"/>
          </a:xfrm>
          <a:prstGeom prst="pie">
            <a:avLst/>
          </a:prstGeom>
          <a:solidFill>
            <a:srgbClr val="7030a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Arial"/>
              </a:rPr>
              <a:t>Somatic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Freeform 23"/>
          <p:cNvSpPr/>
          <p:nvPr/>
        </p:nvSpPr>
        <p:spPr>
          <a:xfrm>
            <a:off x="6012000" y="1773360"/>
            <a:ext cx="1296720" cy="596880"/>
          </a:xfrm>
          <a:prstGeom prst="pie">
            <a:avLst/>
          </a:prstGeom>
          <a:solidFill>
            <a:srgbClr val="ff9999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m Umbilical Cord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Freeform 24"/>
          <p:cNvSpPr/>
          <p:nvPr/>
        </p:nvSpPr>
        <p:spPr>
          <a:xfrm>
            <a:off x="6012000" y="2957400"/>
            <a:ext cx="1193760" cy="596880"/>
          </a:xfrm>
          <a:prstGeom prst="pie">
            <a:avLst/>
          </a:prstGeom>
          <a:solidFill>
            <a:srgbClr val="92d05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mbilical Cord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Freeform 25"/>
          <p:cNvSpPr/>
          <p:nvPr/>
        </p:nvSpPr>
        <p:spPr>
          <a:xfrm>
            <a:off x="1793880" y="4075200"/>
            <a:ext cx="1193760" cy="596880"/>
          </a:xfrm>
          <a:prstGeom prst="pie">
            <a:avLst/>
          </a:prstGeom>
          <a:solidFill>
            <a:srgbClr val="7030a0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Arial"/>
              </a:rPr>
              <a:t>Embryonic 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Freeform 26"/>
          <p:cNvSpPr/>
          <p:nvPr/>
        </p:nvSpPr>
        <p:spPr>
          <a:xfrm>
            <a:off x="3757680" y="4992840"/>
            <a:ext cx="1193760" cy="596880"/>
          </a:xfrm>
          <a:prstGeom prst="pie">
            <a:avLst/>
          </a:prstGeom>
          <a:solidFill>
            <a:srgbClr val="ff3305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em Cells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cxnSp>
        <p:nvCxnSpPr>
          <p:cNvPr id="109" name="Straight Arrow Connector 7"/>
          <p:cNvCxnSpPr/>
          <p:nvPr/>
        </p:nvCxnSpPr>
        <p:spPr>
          <a:xfrm>
            <a:off x="2339640" y="3644640"/>
            <a:ext cx="1080" cy="361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0" name="Straight Arrow Connector 10"/>
          <p:cNvCxnSpPr/>
          <p:nvPr/>
        </p:nvCxnSpPr>
        <p:spPr>
          <a:xfrm>
            <a:off x="4642920" y="3618000"/>
            <a:ext cx="793080" cy="388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/>
          <p:nvPr/>
        </p:nvCxnSpPr>
        <p:spPr>
          <a:xfrm flipH="1">
            <a:off x="6055920" y="3605040"/>
            <a:ext cx="568800" cy="388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2" name="Straight Arrow Connector 14"/>
          <p:cNvCxnSpPr/>
          <p:nvPr/>
        </p:nvCxnSpPr>
        <p:spPr>
          <a:xfrm flipH="1">
            <a:off x="5152680" y="4797360"/>
            <a:ext cx="567360" cy="388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3" name="Straight Arrow Connector 15"/>
          <p:cNvCxnSpPr/>
          <p:nvPr/>
        </p:nvCxnSpPr>
        <p:spPr>
          <a:xfrm>
            <a:off x="2771280" y="4797360"/>
            <a:ext cx="793080" cy="388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4" name="Straight Arrow Connector 29"/>
          <p:cNvCxnSpPr/>
          <p:nvPr/>
        </p:nvCxnSpPr>
        <p:spPr>
          <a:xfrm>
            <a:off x="2339640" y="2491920"/>
            <a:ext cx="1080" cy="361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5" name="Straight Arrow Connector 30"/>
          <p:cNvCxnSpPr/>
          <p:nvPr/>
        </p:nvCxnSpPr>
        <p:spPr>
          <a:xfrm>
            <a:off x="4642920" y="2491920"/>
            <a:ext cx="1080" cy="361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  <p:cxnSp>
        <p:nvCxnSpPr>
          <p:cNvPr id="116" name="Straight Arrow Connector 31"/>
          <p:cNvCxnSpPr/>
          <p:nvPr/>
        </p:nvCxnSpPr>
        <p:spPr>
          <a:xfrm>
            <a:off x="6624360" y="2491920"/>
            <a:ext cx="1080" cy="361080"/>
          </a:xfrm>
          <a:prstGeom prst="straightConnector1">
            <a:avLst/>
          </a:prstGeom>
          <a:ln w="9360">
            <a:solidFill>
              <a:srgbClr val="99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6-03T00:56:06Z</dcterms:modified>
  <cp:revision>62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